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023-1B90-4181-92F4-09E46EDB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7F4-30DA-44A7-9A40-6365F72D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6B2-D32F-4B8D-B9F1-FD0B8F26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E79-6E37-4CD4-9487-505D7497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1DA-C89B-4528-9AAB-22FA52FF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F55-9945-4902-9D5F-0C9F8C67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8B1-9992-4FF0-83D7-FCA98382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306-DDB8-459E-B4BA-88F44AF8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A97-9D44-45C9-B8CA-27798090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8F3-2E87-41FB-B3A1-31E77FF4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2D1-08FC-4558-8B94-75963BB3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97B-E53D-4D76-9A08-CEEF4C41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8F7A-2337-484E-9A76-ADCEBC0A0C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533520"/>
            <a:ext cx="845820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Fighting the Virus:hiv/aids in Africa</a:t>
            </a:r>
            <a:endParaRPr b="1" i="1" lang="en-US" sz="2400" spc="1" strike="noStrike">
              <a:ln w="0">
                <a:noFill/>
              </a:ln>
              <a:solidFill>
                <a:srgbClr val="33cc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19320"/>
            <a:ext cx="5791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rica_pol01" descr=""/>
          <p:cNvPicPr/>
          <p:nvPr/>
        </p:nvPicPr>
        <p:blipFill>
          <a:blip r:embed="rId1"/>
          <a:stretch/>
        </p:blipFill>
        <p:spPr>
          <a:xfrm>
            <a:off x="2895480" y="133200"/>
            <a:ext cx="5910480" cy="6724800"/>
          </a:xfrm>
          <a:prstGeom prst="rect">
            <a:avLst/>
          </a:prstGeom>
          <a:ln w="0">
            <a:noFill/>
          </a:ln>
        </p:spPr>
      </p:pic>
      <p:pic>
        <p:nvPicPr>
          <p:cNvPr id="44" name="finallogo" descr=""/>
          <p:cNvPicPr/>
          <p:nvPr/>
        </p:nvPicPr>
        <p:blipFill>
          <a:blip r:embed="rId2"/>
          <a:stretch/>
        </p:blipFill>
        <p:spPr>
          <a:xfrm>
            <a:off x="0" y="380880"/>
            <a:ext cx="2549520" cy="148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1905120"/>
            <a:ext cx="297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ading in by telling the students how serious the situation of HIV  is in 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ask 1  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learn to comp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list of all the numbers and the related events compare the situation in Africa with that in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43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3276720"/>
          <a:ext cx="9144000" cy="2862000"/>
        </p:xfrm>
        <a:graphic>
          <a:graphicData uri="http://schemas.openxmlformats.org/drawingml/2006/table">
            <a:tbl>
              <a:tblPr/>
              <a:tblGrid>
                <a:gridCol w="2316240"/>
                <a:gridCol w="682776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 people were living with HIV or AIDS in 2002//27 million in sub-Saharan are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 were children//2 million children in Afri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04920" y="6216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We will show your diagram on the proj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1523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sub-Saharan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09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suffer the 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4952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od news and challe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5943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can be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447920"/>
            <a:ext cx="2209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572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2 paragraph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9907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at least one question for each paragraph for your part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Task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5257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U686P1T1D5080913F21DT20041201100717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5143320" cy="3178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09680" y="6019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Hu visits aids patients in th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0592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4 Language lea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4876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s of thousand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se numbers were to grow, the future of Africa might be in da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lastslide"/>
          </p:cNvPr>
          <p:cNvSpPr/>
          <p:nvPr/>
        </p:nvSpPr>
        <p:spPr>
          <a:xfrm>
            <a:off x="76201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7244" y="10800"/>
                </a:moveTo>
                <a:lnTo>
                  <a:pt x="6738" y="17806"/>
                </a:lnTo>
                <a:lnTo>
                  <a:pt x="6738" y="3794"/>
                </a:lnTo>
                <a:close/>
              </a:path>
              <a:path fill="darken" w="27489" h="21600">
                <a:moveTo>
                  <a:pt x="19089" y="3794"/>
                </a:moveTo>
                <a:lnTo>
                  <a:pt x="19089" y="17806"/>
                </a:lnTo>
                <a:lnTo>
                  <a:pt x="20751" y="17806"/>
                </a:lnTo>
                <a:lnTo>
                  <a:pt x="2075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6019920" y="60199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9263" y="10800"/>
                </a:moveTo>
                <a:lnTo>
                  <a:pt x="19768" y="3794"/>
                </a:lnTo>
                <a:lnTo>
                  <a:pt x="19768" y="17806"/>
                </a:lnTo>
                <a:close/>
              </a:path>
              <a:path fill="darken" w="25523" h="21600">
                <a:moveTo>
                  <a:pt x="5755" y="3794"/>
                </a:moveTo>
                <a:lnTo>
                  <a:pt x="7417" y="3794"/>
                </a:lnTo>
                <a:lnTo>
                  <a:pt x="7417" y="17806"/>
                </a:lnTo>
                <a:lnTo>
                  <a:pt x="57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75438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Car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Keep the disease a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The good news is that it is still not too late to protect… agains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The fight agains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victims of the dis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t seams unlikely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 Hope for/in the hope of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12095" y="10800"/>
                </a:moveTo>
                <a:lnTo>
                  <a:pt x="22600" y="3794"/>
                </a:lnTo>
                <a:lnTo>
                  <a:pt x="22600" y="17806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10250" y="3794"/>
                </a:lnTo>
                <a:lnTo>
                  <a:pt x="10250" y="17806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7:06:54Z</dcterms:created>
  <dc:creator>郭学宝</dc:creator>
  <dc:description/>
  <dc:language>en-US</dc:language>
  <cp:lastModifiedBy>郭学宝</cp:lastModifiedBy>
  <dcterms:modified xsi:type="dcterms:W3CDTF">2004-12-02T02:07:15Z</dcterms:modified>
  <cp:revision>16</cp:revision>
  <dc:subject/>
  <dc:title>PowerPoint 演示文稿</dc:title>
</cp:coreProperties>
</file>